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38.jpeg" ContentType="image/jpeg"/>
  <Override PartName="/ppt/media/image40.png" ContentType="image/png"/>
  <Override PartName="/ppt/media/image31.jpeg" ContentType="image/jpeg"/>
  <Override PartName="/ppt/media/image41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9.jpeg" ContentType="image/jpeg"/>
  <Override PartName="/ppt/media/image30.jpeg" ContentType="image/jpeg"/>
  <Override PartName="/ppt/media/image10.png" ContentType="image/png"/>
  <Override PartName="/ppt/media/image47.png" ContentType="image/png"/>
  <Override PartName="/ppt/media/image12.png" ContentType="image/png"/>
  <Override PartName="/ppt/media/image49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CFB-8712-4371-878E-7DBAF9AC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73F-80F7-4E86-B5AF-D8D4A53F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766-9CE9-450A-8C3B-D0D4AE28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38D-F135-42ED-8B08-924BBC22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87F3-D27B-43D9-81F9-2214ECF2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D6ED-F87D-441B-AD99-8725520F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B530-1BF8-4BBC-B327-A4F9C877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1C17-EBFB-41F6-BB8E-8E512A6C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36A4-BF03-46DC-9EF2-3319AD2F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D804-4B2E-484E-91A0-F5A1BE2A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BB8E-C485-44EB-84AF-7A7B43E6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533-5E9E-498C-AA88-242B9C2E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24F6-2513-41D7-B3C2-E72A6E60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7292-CBA6-4622-B60B-ACE33DC1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1A10-3C74-4C24-BF2E-C07C34BA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0D15-9777-4ECC-BBE2-DF395028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46B3-D667-4C7E-B8A7-824CF38A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6D0D-DC18-4089-A6D0-A1DE325F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E9E1-9429-4708-8690-338DB778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2E9C5-DCD6-4F7B-BAF1-2C15B720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84E5-E10A-4FE3-A3BF-07683E53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0DDE-43D8-4738-B469-C6AE7A29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46C-53CF-41FC-8133-ABD45FBC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2FFC2-7A99-4523-880D-BEE4F910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5B12-5610-4C0E-9229-21EA33FD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567A-639C-4421-8C10-7BD87C08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124C2-EF6C-4E42-9B59-CA7B09DF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02F3D-E783-42EC-9EA9-8612C640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9219-085A-41BB-94A8-64CCEB69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CCAC-95B2-4613-A5BC-D50C2A44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77185-AAB5-4601-A9B3-50164F1B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E759E-7C92-4273-A5F6-867CF1B5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F6BAB-6B14-45FA-AD22-8E4DBE6A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DFB-0F80-4CB3-B2AA-4A382E9D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1193-E45D-484C-872D-A46BA04F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55035-81E0-4C3A-8782-5B72B2DB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34DF-B77F-4179-A939-FF5F67E6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1B57-699F-44F1-8C58-252FD7E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53B26-9091-44DB-ADAA-24584155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6B55-2F04-4595-B876-D6533884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2952A-A8EE-4B4A-80BB-1CE35397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42A9-06E8-413C-8859-E5E1B1B2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7B4F-8A47-4D2A-B002-858BC4C1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05917-B492-4732-BBBF-2585975E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543-395B-45FB-9508-E94CF04F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6D1B9-09AC-4E50-80CD-DE5EDFA8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240F-D86D-40C7-98CD-4F1CFD8A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48280-6CBE-406C-90EF-D6B04A73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9C97E-A2DB-44AE-8A52-67840CEA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2FD7F-4245-4ECC-BC17-B892E70D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EEE3E-27E2-4C5A-A9AA-CA0C5D9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1A94E-5834-4E51-AE0D-5DE1B438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82388-12AD-42E0-ACF1-6B3AA28E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8BD7E-08D0-4D02-919A-B0E6FDCD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2FD7-8D40-4261-A122-3A07FFE3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B6F-1F51-4FE1-8CC4-E44008BB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8B60-A728-4268-A822-936DFE64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62F69-974D-4250-9344-4A50DD5D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7BB59-F840-4C83-ACC5-64A072F0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EC79-017B-4A8A-B212-6BB3E806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0D241-E983-484F-99C4-A4E7E4FF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9ACA2-DE14-4455-BB50-2624D1BF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513D3-9B73-4947-B5A7-8930C39D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B242E-538E-49A0-9BA3-D5807D1B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E91A6-31E2-435E-A7BB-D147393D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813B4-64E7-4F08-AF64-DCA4822E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617-FC84-48ED-9BE1-CEEC16BC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E3F51-039E-4056-871A-D386E6A0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29274-BDE6-4F42-AF4F-7F61C73C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30FE0-32CF-4E74-9A1D-541C32EA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7A6D2-5648-4BD9-A79A-B5D0F9F4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369F1-5BB9-491D-8DAE-00E07F3B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3996B-8CEB-49DE-9FAB-C944602A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FD045-FCB4-44D2-93ED-A42E1044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2011-B27A-49BF-ACDE-4A52A01E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EB98D-F4F1-49CC-9642-63ED77DB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61285-FF40-4B25-B7EB-E3833605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46F-EF9C-4C89-A79A-1A8D806C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D2B51-75E3-4F63-A673-DEECD9AE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E5C3C-8BC9-4BD8-A709-C7DF383E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FE5E5-E755-48C4-80DE-F637463F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8E780-E3A9-4FA0-81DD-74B79CC8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68E61-117C-4F8A-9C0A-E1193FAB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D2720-B057-4A92-A9F8-F81211FA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ABF01-2765-4379-A436-8A580A75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096E2-6444-495A-BCC0-78688667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ACF19-9F62-4545-B8DC-DD9F43E4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DABC1-BB60-4725-8DCA-61867CA9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91D-0048-4ED7-96C6-E6EFC659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98BC1-CE79-499D-8FFF-0070F327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F5480-273A-4BD8-9116-91F4D2E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051AC-D12C-41DD-81B2-19F30BE4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72631-AFA0-4B94-8D0D-4F784581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B2CCD-C85F-46CF-B4E0-83838768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1D23B-3390-4A42-80F2-E137A4CF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2CBDD-BCD4-4027-A724-80D27E5C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3079-2699-4C53-ABD8-C28BE8CB6C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F47C-8171-4115-9B9B-82FF261EE67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ED26-786E-4601-925D-EE40197198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AB4F-5D99-4246-BDA3-767A7EC781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C972-1D5E-4C66-BDA0-8A8316F5DB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3555-25E1-4DD7-A7FA-71583F9214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8D4C-8C60-4A0B-931B-60A0060475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64A9-525D-43A7-9BD1-8C8217AA75E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8;&#1086;&#1074;&#1086;&#1076;&#1085;&#1080;&#1082;_(&#1101;&#1083;&#1077;&#1082;&#1090;&#1088;&#1080;&#1095;&#1077;&#1089;&#1090;&#1074;&#1086;)" TargetMode="External"/><Relationship Id="rId2" Type="http://schemas.openxmlformats.org/officeDocument/2006/relationships/hyperlink" Target="https://ru.wikipedia.org/wiki/&#1044;&#1080;&#1101;&#1083;&#1077;&#1082;&#1090;&#1088;&#1080;&#1082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AutoShape 2" descr=""/>
          <p:cNvPicPr/>
          <p:nvPr/>
        </p:nvPicPr>
        <p:blipFill>
          <a:blip r:embed="rId1"/>
          <a:stretch/>
        </p:blipFill>
        <p:spPr>
          <a:xfrm>
            <a:off x="396720" y="1554120"/>
            <a:ext cx="7772400" cy="1835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5" descr="barlas"/>
          <p:cNvPicPr/>
          <p:nvPr/>
        </p:nvPicPr>
        <p:blipFill>
          <a:blip r:embed="rId1"/>
          <a:stretch/>
        </p:blipFill>
        <p:spPr>
          <a:xfrm>
            <a:off x="0" y="469728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6" descr="services_laser_intro"/>
          <p:cNvPicPr/>
          <p:nvPr/>
        </p:nvPicPr>
        <p:blipFill>
          <a:blip r:embed="rId2"/>
          <a:stretch/>
        </p:blipFill>
        <p:spPr>
          <a:xfrm>
            <a:off x="7054920" y="4365720"/>
            <a:ext cx="2089080" cy="18507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6840" y="148392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лупроводниковый лазер - «усиленный» вариант светодиод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личается особо малыми размерами и низкой потребляемой мощность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пользуется в лазурных указках, медицине, измерительных приборах, системах оптической связи и т.д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AutoShape 2" descr=""/>
          <p:cNvPicPr/>
          <p:nvPr/>
        </p:nvPicPr>
        <p:blipFill>
          <a:blip r:embed="rId3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" descr="dem1"/>
          <p:cNvPicPr/>
          <p:nvPr/>
        </p:nvPicPr>
        <p:blipFill>
          <a:blip r:embed="rId4"/>
          <a:stretch/>
        </p:blipFill>
        <p:spPr>
          <a:xfrm rot="20386800">
            <a:off x="3071880" y="4987440"/>
            <a:ext cx="4321080" cy="167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6" descr="trans0"/>
          <p:cNvPicPr/>
          <p:nvPr/>
        </p:nvPicPr>
        <p:blipFill>
          <a:blip r:embed="rId1"/>
          <a:stretch/>
        </p:blipFill>
        <p:spPr>
          <a:xfrm>
            <a:off x="6715080" y="2060640"/>
            <a:ext cx="2428920" cy="142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p4am_m"/>
          <p:cNvPicPr/>
          <p:nvPr/>
        </p:nvPicPr>
        <p:blipFill>
          <a:blip r:embed="rId2"/>
          <a:stretch/>
        </p:blipFill>
        <p:spPr>
          <a:xfrm>
            <a:off x="7810560" y="5157720"/>
            <a:ext cx="1333440" cy="952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611280" y="2707920"/>
            <a:ext cx="7681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ранзистор – прибор с двумя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-n-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еход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силивает электрический сигна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ализует логические операции на физическом уров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AutoShape 2" descr=""/>
          <p:cNvPicPr/>
          <p:nvPr/>
        </p:nvPicPr>
        <p:blipFill>
          <a:blip r:embed="rId3"/>
          <a:stretch/>
        </p:blipFill>
        <p:spPr>
          <a:xfrm>
            <a:off x="396720" y="262080"/>
            <a:ext cx="8423280" cy="16459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4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3" descr="image_22"/>
          <p:cNvPicPr/>
          <p:nvPr/>
        </p:nvPicPr>
        <p:blipFill>
          <a:blip r:embed="rId4"/>
          <a:stretch/>
        </p:blipFill>
        <p:spPr>
          <a:xfrm>
            <a:off x="755640" y="5157720"/>
            <a:ext cx="3168720" cy="19033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5" descr="tr"/>
          <p:cNvPicPr/>
          <p:nvPr/>
        </p:nvPicPr>
        <p:blipFill>
          <a:blip r:embed="rId5"/>
          <a:stretch/>
        </p:blipFill>
        <p:spPr>
          <a:xfrm>
            <a:off x="4211640" y="4797360"/>
            <a:ext cx="3097080" cy="232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4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3" descr="x-8238k"/>
          <p:cNvPicPr/>
          <p:nvPr/>
        </p:nvPicPr>
        <p:blipFill>
          <a:blip r:embed="rId1"/>
          <a:stretch/>
        </p:blipFill>
        <p:spPr>
          <a:xfrm rot="1876800">
            <a:off x="-396720" y="5734080"/>
            <a:ext cx="2190600" cy="17143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6" descr="p4_02"/>
          <p:cNvPicPr/>
          <p:nvPr/>
        </p:nvPicPr>
        <p:blipFill>
          <a:blip r:embed="rId2"/>
          <a:stretch/>
        </p:blipFill>
        <p:spPr>
          <a:xfrm>
            <a:off x="6983280" y="4869000"/>
            <a:ext cx="2160720" cy="1807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вокупность полупроводниковых диодов, резисторов, транзистор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полнена на микронном уров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которые микросхемы содержат до 55 млн. транзистор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требляет гораздо меньше электричества и имеет гораздо меньшие размеры, чем соответствующее количество обычных транзистор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AutoShape 2" descr=""/>
          <p:cNvPicPr/>
          <p:nvPr/>
        </p:nvPicPr>
        <p:blipFill>
          <a:blip r:embed="rId3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2" descr="Копия vlsi"/>
          <p:cNvPicPr/>
          <p:nvPr/>
        </p:nvPicPr>
        <p:blipFill>
          <a:blip r:embed="rId4"/>
          <a:stretch/>
        </p:blipFill>
        <p:spPr>
          <a:xfrm>
            <a:off x="3635280" y="5705640"/>
            <a:ext cx="1428840" cy="1152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0" descr="system_2_1_135_LittleImg"/>
          <p:cNvPicPr/>
          <p:nvPr/>
        </p:nvPicPr>
        <p:blipFill>
          <a:blip r:embed="rId5"/>
          <a:stretch/>
        </p:blipFill>
        <p:spPr>
          <a:xfrm>
            <a:off x="5364000" y="57769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3" descr="chips_3"/>
          <p:cNvPicPr/>
          <p:nvPr/>
        </p:nvPicPr>
        <p:blipFill>
          <a:blip r:embed="rId6"/>
          <a:stretch/>
        </p:blipFill>
        <p:spPr>
          <a:xfrm>
            <a:off x="7277040" y="2060640"/>
            <a:ext cx="1866960" cy="1542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5" descr="decoder"/>
          <p:cNvPicPr/>
          <p:nvPr/>
        </p:nvPicPr>
        <p:blipFill>
          <a:blip r:embed="rId7"/>
          <a:stretch/>
        </p:blipFill>
        <p:spPr>
          <a:xfrm>
            <a:off x="7667640" y="333360"/>
            <a:ext cx="2390760" cy="16956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7" descr="1762491"/>
          <p:cNvPicPr/>
          <p:nvPr/>
        </p:nvPicPr>
        <p:blipFill>
          <a:blip r:embed="rId8"/>
          <a:stretch/>
        </p:blipFill>
        <p:spPr>
          <a:xfrm>
            <a:off x="7477200" y="3716280"/>
            <a:ext cx="1666800" cy="85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2" descr=""/>
          <p:cNvPicPr/>
          <p:nvPr/>
        </p:nvPicPr>
        <p:blipFill>
          <a:blip r:embed="rId1"/>
          <a:stretch/>
        </p:blipFill>
        <p:spPr>
          <a:xfrm>
            <a:off x="2341440" y="277956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олупроводники́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—  вещества, в которых электрический ток образуется движением электронов,  занимающие промежуточное место между 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проводникам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 диэлектрикам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b641b"/>
                </a:solidFill>
                <a:latin typeface="Lucida Sans Unicode"/>
              </a:rPr>
              <a:t>Полупроводниками являются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химические элементы IV, 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VI групп периодической системы Д. И. Менделеева —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графит, кремний, германий, селен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 другие, включая соединения этих металл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Односторонняя проводимость полупроводникового переход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висимость сопротивления от температуры и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 от интенсивности падающего излу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ность преобразовывать световую энергию в электрическую и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электрическую энергию в светову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AutoShape 2" descr=""/>
          <p:cNvPicPr/>
          <p:nvPr/>
        </p:nvPicPr>
        <p:blipFill>
          <a:blip r:embed="rId4"/>
          <a:stretch/>
        </p:blipFill>
        <p:spPr>
          <a:xfrm>
            <a:off x="176040" y="189000"/>
            <a:ext cx="8791920" cy="113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225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725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изготовлени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Полупроводниковых диод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Термистор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Фоторезистор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Фотодиод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Светодиод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6" action="ppaction://hlinksldjump"/>
              </a:rPr>
              <a:t>Транзистор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7" action="ppaction://hlinksldjump"/>
              </a:rPr>
              <a:t>Микросхе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AutoShape 2" descr=""/>
          <p:cNvPicPr/>
          <p:nvPr/>
        </p:nvPicPr>
        <p:blipFill>
          <a:blip r:embed="rId8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-631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ладает свойством односторонней проводимости: пропускает ток только в одном направлен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31800" indent="-631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пользуется в простейших схемах преобразования переменного тока в постоянн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31800" indent="-631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ежит в основе других полупроводниковых прибор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AutoShape 2050" descr=""/>
          <p:cNvPicPr/>
          <p:nvPr/>
        </p:nvPicPr>
        <p:blipFill>
          <a:blip r:embed="rId1"/>
          <a:stretch/>
        </p:blipFill>
        <p:spPr>
          <a:xfrm>
            <a:off x="542880" y="189000"/>
            <a:ext cx="8601120" cy="172548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2052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064" descr="diod"/>
          <p:cNvPicPr/>
          <p:nvPr/>
        </p:nvPicPr>
        <p:blipFill>
          <a:blip r:embed="rId2"/>
          <a:stretch/>
        </p:blipFill>
        <p:spPr>
          <a:xfrm>
            <a:off x="8172360" y="2708280"/>
            <a:ext cx="777960" cy="1339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066" descr="diodes2"/>
          <p:cNvPicPr/>
          <p:nvPr/>
        </p:nvPicPr>
        <p:blipFill>
          <a:blip r:embed="rId3"/>
          <a:stretch/>
        </p:blipFill>
        <p:spPr>
          <a:xfrm rot="19943400">
            <a:off x="7093080" y="5373360"/>
            <a:ext cx="2293920" cy="1308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068" descr="a2355f1"/>
          <p:cNvPicPr/>
          <p:nvPr/>
        </p:nvPicPr>
        <p:blipFill>
          <a:blip r:embed="rId4"/>
          <a:stretch/>
        </p:blipFill>
        <p:spPr>
          <a:xfrm rot="927600">
            <a:off x="250920" y="5734080"/>
            <a:ext cx="2590560" cy="690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074" descr="diodes3"/>
          <p:cNvPicPr/>
          <p:nvPr/>
        </p:nvPicPr>
        <p:blipFill>
          <a:blip r:embed="rId5"/>
          <a:stretch/>
        </p:blipFill>
        <p:spPr>
          <a:xfrm>
            <a:off x="3564000" y="5013360"/>
            <a:ext cx="3744720" cy="235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5280" y="2647440"/>
            <a:ext cx="82915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меняет свое сопротивление при изменении температур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5320" indent="-6253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содержит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-n-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еход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5320" indent="-6253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няется в системах контроля температур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AutoShape 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8498160" cy="221904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4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9" descr="termistor1"/>
          <p:cNvPicPr/>
          <p:nvPr/>
        </p:nvPicPr>
        <p:blipFill>
          <a:blip r:embed="rId2"/>
          <a:stretch/>
        </p:blipFill>
        <p:spPr>
          <a:xfrm rot="19551600">
            <a:off x="8124840" y="2565000"/>
            <a:ext cx="1019160" cy="23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7" descr="Thermistor"/>
          <p:cNvPicPr/>
          <p:nvPr/>
        </p:nvPicPr>
        <p:blipFill>
          <a:blip r:embed="rId3"/>
          <a:stretch/>
        </p:blipFill>
        <p:spPr>
          <a:xfrm rot="20092200">
            <a:off x="3203280" y="4771800"/>
            <a:ext cx="2879640" cy="208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2" descr="croc18"/>
          <p:cNvPicPr/>
          <p:nvPr/>
        </p:nvPicPr>
        <p:blipFill>
          <a:blip r:embed="rId1"/>
          <a:stretch/>
        </p:blipFill>
        <p:spPr>
          <a:xfrm>
            <a:off x="7126200" y="4233960"/>
            <a:ext cx="2017800" cy="262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pic030"/>
          <p:cNvPicPr/>
          <p:nvPr/>
        </p:nvPicPr>
        <p:blipFill>
          <a:blip r:embed="rId2"/>
          <a:stretch/>
        </p:blipFill>
        <p:spPr>
          <a:xfrm>
            <a:off x="7524720" y="1413000"/>
            <a:ext cx="1335240" cy="1557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837720" y="2684520"/>
            <a:ext cx="768204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меняет свое сопротивление в зависимости от интенсивности падающего излуч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5320" indent="-6253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содержит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-n-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еход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5320" indent="-6253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няется в качестве приемников и датчиков оптического излучения, киноустановках и т.д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AutoShape 2" descr=""/>
          <p:cNvPicPr/>
          <p:nvPr/>
        </p:nvPicPr>
        <p:blipFill>
          <a:blip r:embed="rId3"/>
          <a:stretch/>
        </p:blipFill>
        <p:spPr>
          <a:xfrm>
            <a:off x="609480" y="476280"/>
            <a:ext cx="8363160" cy="14191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4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sun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5013360"/>
            <a:ext cx="1692360" cy="16714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sol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6372360" y="4376880"/>
            <a:ext cx="2592360" cy="24811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000" y="1628280"/>
            <a:ext cx="81471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и освещении изменяет свое сопротивлени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и освещении создае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электрический ток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одержит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-n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перехо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спользуются в качестве детекторов излучений, для приема-передачи информац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олнечная батарея – огромный массив фотодиодов – используется для получения электрической энергии в космосе и на земл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AutoShape 2" descr=""/>
          <p:cNvPicPr/>
          <p:nvPr/>
        </p:nvPicPr>
        <p:blipFill>
          <a:blip r:embed="rId3"/>
          <a:stretch/>
        </p:blipFill>
        <p:spPr>
          <a:xfrm>
            <a:off x="469800" y="262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4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1850"/>
                            </p:stCondLst>
                            <p:childTnLst>
                              <p:par>
                                <p:cTn id="1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550"/>
                            </p:stCondLst>
                            <p:childTnLst>
                              <p:par>
                                <p:cTn id="2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100"/>
                            </p:stCondLst>
                            <p:childTnLst>
                              <p:par>
                                <p:cTn id="2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71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1" descr="1a"/>
          <p:cNvPicPr/>
          <p:nvPr/>
        </p:nvPicPr>
        <p:blipFill>
          <a:blip r:embed="rId1"/>
          <a:stretch/>
        </p:blipFill>
        <p:spPr>
          <a:xfrm>
            <a:off x="1116000" y="515772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4" descr="cob_sl"/>
          <p:cNvPicPr/>
          <p:nvPr/>
        </p:nvPicPr>
        <p:blipFill>
          <a:blip r:embed="rId2"/>
          <a:stretch/>
        </p:blipFill>
        <p:spPr>
          <a:xfrm>
            <a:off x="7137360" y="4149720"/>
            <a:ext cx="2006640" cy="19558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179280" y="980640"/>
            <a:ext cx="8785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еобразует электрическую энергию в световую (видимую и невидимую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одержит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-n-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ехо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требляет меньше энергии, имеет меньшие размеры и работает дольше, чем обычная лампочк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спользуется в качестве источника света в автомобильных фарах, светофорах, фонарях и фонарика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ветодиод используется в пультах дистанционного управления бытовой аппаратуры, системах связи и т.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AutoShape 2" descr=""/>
          <p:cNvPicPr/>
          <p:nvPr/>
        </p:nvPicPr>
        <p:blipFill>
          <a:blip r:embed="rId3"/>
          <a:stretch/>
        </p:blipFill>
        <p:spPr>
          <a:xfrm>
            <a:off x="4698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7" descr="tv24m"/>
          <p:cNvPicPr/>
          <p:nvPr/>
        </p:nvPicPr>
        <p:blipFill>
          <a:blip r:embed="rId4"/>
          <a:stretch/>
        </p:blipFill>
        <p:spPr>
          <a:xfrm>
            <a:off x="8172360" y="2349360"/>
            <a:ext cx="971640" cy="730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0" descr="led2"/>
          <p:cNvPicPr/>
          <p:nvPr/>
        </p:nvPicPr>
        <p:blipFill>
          <a:blip r:embed="rId5"/>
          <a:stretch/>
        </p:blipFill>
        <p:spPr>
          <a:xfrm>
            <a:off x="5796000" y="5810400"/>
            <a:ext cx="1905120" cy="1047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2" descr="diodes"/>
          <p:cNvPicPr/>
          <p:nvPr/>
        </p:nvPicPr>
        <p:blipFill>
          <a:blip r:embed="rId6"/>
          <a:stretch/>
        </p:blipFill>
        <p:spPr>
          <a:xfrm>
            <a:off x="4716360" y="5516640"/>
            <a:ext cx="1176480" cy="1187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3" descr="diod22"/>
          <p:cNvPicPr/>
          <p:nvPr/>
        </p:nvPicPr>
        <p:blipFill>
          <a:blip r:embed="rId7"/>
          <a:stretch/>
        </p:blipFill>
        <p:spPr>
          <a:xfrm>
            <a:off x="3059280" y="5619600"/>
            <a:ext cx="1609560" cy="1238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9" descr="line"/>
          <p:cNvPicPr/>
          <p:nvPr/>
        </p:nvPicPr>
        <p:blipFill>
          <a:blip r:embed="rId8"/>
          <a:stretch/>
        </p:blipFill>
        <p:spPr>
          <a:xfrm rot="256200">
            <a:off x="1692360" y="6021360"/>
            <a:ext cx="1218960" cy="66996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4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6" descr="12"/>
          <p:cNvPicPr/>
          <p:nvPr/>
        </p:nvPicPr>
        <p:blipFill>
          <a:blip r:embed="rId9"/>
          <a:stretch/>
        </p:blipFill>
        <p:spPr>
          <a:xfrm>
            <a:off x="0" y="5848200"/>
            <a:ext cx="1655640" cy="10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7:36:26Z</dcterms:created>
  <dc:creator>петр</dc:creator>
  <dc:description/>
  <dc:language>en-US</dc:language>
  <cp:lastModifiedBy>Пользователь Windows</cp:lastModifiedBy>
  <dcterms:modified xsi:type="dcterms:W3CDTF">2020-09-08T18:47:59Z</dcterms:modified>
  <cp:revision>34</cp:revision>
  <dc:subject/>
  <dc:title>Полупроводники – основа современной электроники</dc:title>
</cp:coreProperties>
</file>